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FE4-AD31-4590-88AE-24D601CD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052A-F15D-4BD7-ABF5-CA6AFD63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07C4-34AB-4731-A6FD-F21BFCEF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DB2-E20D-41B5-A0CB-C203C322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0E2F-C742-4877-B46E-88EC1B01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F7E2-F2B6-4186-BB85-4EC21FCB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B128-F3C8-46DF-93B3-A148D1C3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8064-0E74-4408-B1AB-7A6C1F1E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56B1-E06F-4627-9B18-95E429FD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F4EE-D4EC-4B4E-B16C-8C96E874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D81B-ACC6-404C-87B9-10C54874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9F86-7346-4816-87B1-13E3DE98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229600" y="61718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1195-5F92-424F-A212-13CF0D9802D9}" type="slidenum">
              <a:rPr b="1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324120" y="228240"/>
            <a:ext cx="2667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CEP CASTILLEJA DE LA CUE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2E78-ECF7-4757-9BD1-535A01102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2448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COMPETENCIAS BÁSICAS Y CURRICUL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4267080"/>
            <a:ext cx="8076960" cy="762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1680" y="609480"/>
            <a:ext cx="8001000" cy="6145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616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JERC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0400" y="1530360"/>
            <a:ext cx="7963200" cy="2303280"/>
          </a:xfrm>
          <a:prstGeom prst="downArrowCallout">
            <a:avLst>
              <a:gd name="adj1" fmla="val -74766"/>
              <a:gd name="adj2" fmla="val 89090"/>
              <a:gd name="adj3" fmla="val 22361"/>
              <a:gd name="adj4" fmla="val 58264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7920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n actividad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e entrenamient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evan implícito la repetición de los conoc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2958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scribe el pretérito perfecto del verbo ca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liza las siguientes oper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533520" y="600480"/>
            <a:ext cx="8076960" cy="5658120"/>
            <a:chOff x="533520" y="600480"/>
            <a:chExt cx="8076960" cy="5658120"/>
          </a:xfrm>
        </p:grpSpPr>
        <p:sp>
          <p:nvSpPr>
            <p:cNvPr id="48" name=""/>
            <p:cNvSpPr/>
            <p:nvPr/>
          </p:nvSpPr>
          <p:spPr>
            <a:xfrm>
              <a:off x="533520" y="5249880"/>
              <a:ext cx="8076960" cy="9903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1680" y="601560"/>
              <a:ext cx="8001000" cy="6094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480" y="600480"/>
              <a:ext cx="79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ACTIVIDA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0120" y="1439640"/>
              <a:ext cx="7943760" cy="3733920"/>
            </a:xfrm>
            <a:prstGeom prst="downArrowCallout">
              <a:avLst>
                <a:gd name="adj1" fmla="val -44916"/>
                <a:gd name="adj2" fmla="val 54821"/>
                <a:gd name="adj3" fmla="val 9681"/>
                <a:gd name="adj4" fmla="val 81468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1971720"/>
              <a:ext cx="74678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jercitaciones que tienen por finalidad proporcionar al  alumnado la oportunidad de vivenciar y experimentar hechos o comportamientos tales como pensar, adquirir conocimientos, desarrollar actitudes sociales, integrar un esquema de valores e ideales y conseguir determinadas destrezas y habilidades específicas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5249880"/>
              <a:ext cx="7925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Hacer una cadena trófica marin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espués de leer un texto, describir un personaj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rdenar al alumnado de la clase según su altur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533520" y="561960"/>
            <a:ext cx="8076960" cy="5749200"/>
            <a:chOff x="533520" y="561960"/>
            <a:chExt cx="8076960" cy="5749200"/>
          </a:xfrm>
        </p:grpSpPr>
        <p:sp>
          <p:nvSpPr>
            <p:cNvPr id="55" name=""/>
            <p:cNvSpPr/>
            <p:nvPr/>
          </p:nvSpPr>
          <p:spPr>
            <a:xfrm>
              <a:off x="609480" y="561960"/>
              <a:ext cx="8001000" cy="6285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71680" y="1347840"/>
              <a:ext cx="7962840" cy="2752560"/>
            </a:xfrm>
            <a:prstGeom prst="downArrowCallout">
              <a:avLst>
                <a:gd name="adj1" fmla="val -59538"/>
                <a:gd name="adj2" fmla="val 74545"/>
                <a:gd name="adj3" fmla="val 18569"/>
                <a:gd name="adj4" fmla="val 6797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480" y="646560"/>
              <a:ext cx="79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TARE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1445040"/>
              <a:ext cx="7467840" cy="16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s una actividad que cumple dos requisito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duce o se obtiene un 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producto relevante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para el contexto en que se realiz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ma parte de 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alguna práctica so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33520" y="4295880"/>
              <a:ext cx="8076960" cy="2015280"/>
              <a:chOff x="533520" y="4295880"/>
              <a:chExt cx="8076960" cy="2015280"/>
            </a:xfrm>
          </p:grpSpPr>
          <p:sp>
            <p:nvSpPr>
              <p:cNvPr id="60" name=""/>
              <p:cNvSpPr/>
              <p:nvPr/>
            </p:nvSpPr>
            <p:spPr>
              <a:xfrm>
                <a:off x="533520" y="4295880"/>
                <a:ext cx="8076960" cy="196524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09480" y="4375080"/>
                <a:ext cx="7925040" cy="19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Escribir una carta al alcalde para pedir una subvención para la biblioteca escolar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Realizar un menú semanal saludable y compararlo con el de los compañeros y compañeras de la clase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Hacer el presupuesto de una excursión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7:22:20Z</dcterms:created>
  <dc:creator>hp</dc:creator>
  <dc:description/>
  <dc:language>en-US</dc:language>
  <cp:lastModifiedBy>hp</cp:lastModifiedBy>
  <dcterms:modified xsi:type="dcterms:W3CDTF">2009-01-29T12:54:55Z</dcterms:modified>
  <cp:revision>11</cp:revision>
  <dc:subject/>
  <dc:title>Diapositiva 1</dc:title>
</cp:coreProperties>
</file>